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7EF-EDCD-4FEA-B191-4FC06D57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04B-6E9C-42C5-987D-2B83557B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AFD-07C3-4B98-9DE8-3B02AE4B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40E9-E050-49AF-9CC8-1475DE2B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820-1A60-480D-AC7D-1028AFE7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CD4-79D5-48CE-929E-D80267AE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5DC-21BA-45FC-AB41-47D903E5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939-B0AF-45AE-918C-F6ED5BD4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1BC-229E-4E93-BCA7-54202BBC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534-33BE-4E1A-8DAA-4D7F1A10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3E5-419D-4701-AA6D-53283EF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322-26B3-46B4-8EBB-1B791DEE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59C5-B9D8-405B-A9BA-2B616A681E7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+ některé činnosti spadající do okruh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, a další aktivity okruhu A, pokud jsou zaměřené na konkrétní zaměstnavatele (tj. nepřenositelné na jiné podni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podpora de minimis veřejnou podporou, neboť z důvodu své bagatelní výše nemůže ovlivnit obchod mezi členskými státy a  ani narušit hospodářskou soutěž, a nesplňuje tak všechny čtyři znaky veřejné podpory 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360"/>
            <a:ext cx="8439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76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„Rozdělení veřejné podpory a soukromého financování“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r>
              <a:rPr b="0" lang="en-US" sz="1800" spc="-1" strike="noStrike">
                <a:solidFill>
                  <a:srgbClr val="143f7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dnikatelských aktivit cílové skupiny</a:t>
            </a:r>
            <a:r>
              <a:rPr b="0" lang="en-US" sz="1800" spc="-1" strike="noStrike">
                <a:solidFill>
                  <a:srgbClr val="143f7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ání mzdových příspěvků + některé činnosti spadající do okruhu 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1-06-08T12:20:51Z</dcterms:modified>
  <cp:revision>284</cp:revision>
  <dc:subject/>
  <dc:title>Snímek 1</dc:title>
</cp:coreProperties>
</file>